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9.jpeg" ContentType="image/jpeg"/>
  <Override PartName="/ppt/media/image11.jpeg" ContentType="image/jpeg"/>
  <Override PartName="/ppt/media/image36.jpeg" ContentType="image/jpeg"/>
  <Override PartName="/ppt/media/image41.jpeg" ContentType="image/jpeg"/>
  <Override PartName="/ppt/media/image38.png" ContentType="image/png"/>
  <Override PartName="/ppt/media/image39.jpeg" ContentType="image/jpeg"/>
  <Override PartName="/ppt/media/image8.jpeg" ContentType="image/jpeg"/>
  <Override PartName="/ppt/media/image30.png" ContentType="image/png"/>
  <Override PartName="/ppt/media/image5.png" ContentType="image/png"/>
  <Override PartName="/ppt/media/image13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4.png" ContentType="image/png"/>
  <Override PartName="/ppt/media/image37.png" ContentType="image/png"/>
  <Override PartName="/ppt/media/image42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6.png" ContentType="image/png"/>
  <Override PartName="/ppt/media/image33.png" ContentType="image/png"/>
  <Override PartName="/ppt/media/image3.png" ContentType="image/png"/>
  <Override PartName="/ppt/media/image27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844C-D563-4F59-B603-F99C26954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1291-A31E-410B-993E-F44CAA18C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5D7C-79AB-49A2-83F9-08769A1D6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984B-40A9-4EB9-83A5-0135B4A87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19706-292B-4B99-8C46-78E7B63D2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E26C0-D9E1-475A-9316-6FB4EFD12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F07DA-DC9A-488A-910C-DCC6F4D8E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EC0FD-A2DD-4716-97B5-5B2513956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06BAA-1391-444F-89AC-58DFF7D39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79F12-3037-46EE-A518-EA107FD96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089C0-A398-4227-9388-BB12C8A7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2C17-FA2C-4E2C-95DF-A0427F324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5C5B2-3595-426B-9AA4-4505D412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64513-3289-419C-8419-E5538803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B3E8F-5E5F-49E1-87B0-94704AB08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F8C39-7071-4FFE-8F53-BE3B5F343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14781-E098-4FF6-9518-E2B83CC83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705A0-D67D-4115-90A4-59F400283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FD2AE-7592-45C5-9C59-40ED083B9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A0F81-3652-4AC0-9A6B-FF889603F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504B6-8FD5-4A7D-AAF6-1917A5651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3EC15-245A-46B5-A852-68BDACC8D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61EF-0B35-4566-925E-A0078D3E2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93B0C-AA9F-47A2-9E7D-C440F8903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4023E-E5E9-42AF-8297-416FA776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8C2E8-0C52-480D-B746-85E03395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028E0-1F10-4ACC-AD71-4AA86091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D70F3-2CCA-4CF7-942E-1E1A6EB4D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7DAF2-A477-42E9-9D9F-62BAEDBF4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E4F0F-9FEE-4F8C-9535-098F3F8BE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36385-07A3-4B60-B354-960E85BCF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B4D8A-5C71-4CAE-A638-F03A347F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747C0-82E2-4995-B3E0-AFB2ADAD1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87AD-26D5-4929-84D8-C267F58BF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07F97-2FAA-4F75-ABED-692EA8504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FF8D9-6088-40BD-8D90-3803251B6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7EEB7-643D-4DCF-BC99-5865E6054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D5F1D-8502-493C-A072-588899FD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57D6A-7FAC-415D-B8C1-189ED86F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22377-BA25-4614-B6EB-33D655D6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08F69-D337-4EC5-A581-513E441CE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924D5-CAE6-48F5-8FC2-9A3DC6510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4C946-43A1-4B02-9827-C482AAB56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43B1-6C89-49CF-8B1E-0E6BBD640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EF21-B30F-41FA-A3B9-901ED62DC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B18D-132E-40F5-9074-34918B63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07BD-86DB-454B-8446-34F950F0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37D6-0E2F-4645-B537-B3CD60C9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CEDE7-B0A7-4384-AF45-4622787B4133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A383D-D5F5-4430-ADFD-CD8003D55AAE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940EF-5AB0-48B0-951A-B6AA480B3665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95EA7-9DDE-4B8C-8DF3-39184590772D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682560" y="1268280"/>
            <a:ext cx="7948800" cy="27910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371600" y="508464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Лукина Ирина Михайловна</a:t>
            </a: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– кандидат юридических наук, доцент, заведующая кафедрой юриспруденции ФГБОУ ВО «ДОНАГРА»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Схема 7" descr=""/>
          <p:cNvPicPr/>
          <p:nvPr/>
        </p:nvPicPr>
        <p:blipFill>
          <a:blip r:embed="rId1"/>
          <a:stretch/>
        </p:blipFill>
        <p:spPr>
          <a:xfrm>
            <a:off x="384120" y="201600"/>
            <a:ext cx="10167840" cy="1432080"/>
          </a:xfrm>
          <a:prstGeom prst="rect">
            <a:avLst/>
          </a:prstGeom>
          <a:ln w="0">
            <a:noFill/>
          </a:ln>
        </p:spPr>
      </p:pic>
      <p:sp>
        <p:nvSpPr>
          <p:cNvPr id="220" name="Скругленный прямоугольник 6"/>
          <p:cNvSpPr/>
          <p:nvPr/>
        </p:nvSpPr>
        <p:spPr>
          <a:xfrm>
            <a:off x="214200" y="1484280"/>
            <a:ext cx="4643640" cy="5373720"/>
          </a:xfrm>
          <a:custGeom>
            <a:avLst/>
            <a:gdLst>
              <a:gd name="textAreaLeft" fmla="*/ 226440 w 4643640"/>
              <a:gd name="textAreaRight" fmla="*/ 4417200 w 4643640"/>
              <a:gd name="textAreaTop" fmla="*/ 226440 h 5373720"/>
              <a:gd name="textAreaBottom" fmla="*/ 5147280 h 5373720"/>
            </a:gdLst>
            <a:ahLst/>
            <a:rect l="textAreaLeft" t="textAreaTop" r="textAreaRight" b="textAreaBottom"/>
            <a:pathLst>
              <a:path w="21600" h="24996">
                <a:moveTo>
                  <a:pt x="3600" y="0"/>
                </a:moveTo>
                <a:arcTo wR="3600" hR="3600" stAng="16200000" swAng="-5400000"/>
                <a:lnTo>
                  <a:pt x="0" y="21396"/>
                </a:lnTo>
                <a:arcTo wR="3600" hR="3600" stAng="10800000" swAng="-5400000"/>
                <a:lnTo>
                  <a:pt x="18000" y="249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7cca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 Black"/>
              </a:rPr>
              <a:t>Заработная плата</a:t>
            </a:r>
            <a:r>
              <a:rPr b="1" lang="ru-RU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оплата труда работника) - </a:t>
            </a:r>
            <a:r>
              <a:rPr b="1" lang="ru-RU" sz="1600" spc="-1" strike="noStrike">
                <a:solidFill>
                  <a:srgbClr val="ff0000"/>
                </a:solidFill>
                <a:latin typeface="Arial Black"/>
              </a:rPr>
              <a:t>вознаграждение за труд</a:t>
            </a:r>
            <a:r>
              <a:rPr b="1" lang="ru-RU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зависимости от квалификации работника, сложности, количества, качества и условий выполняемой работы, а также </a:t>
            </a:r>
            <a:r>
              <a:rPr b="1" lang="ru-RU" sz="1600" spc="-1" strike="noStrike">
                <a:solidFill>
                  <a:srgbClr val="049824"/>
                </a:solidFill>
                <a:latin typeface="Arial Black"/>
              </a:rPr>
              <a:t>компенсационные выплаты (доплаты и надбавки компенсационного характера</a:t>
            </a:r>
            <a:r>
              <a:rPr b="1" lang="ru-RU" sz="1600" spc="-1" strike="noStrike">
                <a:solidFill>
                  <a:srgbClr val="049824"/>
                </a:solidFill>
                <a:latin typeface="Arial"/>
              </a:rPr>
              <a:t>,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в том числе за работу в условиях, отклоняющихся от нормальных, работу в особых климатических условиях и на территориях, подвергшихся радиоактивному загрязнению, и иные выплаты компенсационного характера) и </a:t>
            </a:r>
            <a:r>
              <a:rPr b="1" lang="ru-RU" sz="1600" spc="-1" strike="noStrike">
                <a:solidFill>
                  <a:srgbClr val="546422"/>
                </a:solidFill>
                <a:latin typeface="Arial Black"/>
              </a:rPr>
              <a:t>стимулирующие выплаты (доплаты и надбавки стимулирующего характера, премии и иные поощрительные выплаты) (ч. 1 ст. 129 ТК РФ)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Содержимое 8" descr=""/>
          <p:cNvPicPr/>
          <p:nvPr/>
        </p:nvPicPr>
        <p:blipFill>
          <a:blip r:embed="rId2"/>
          <a:stretch/>
        </p:blipFill>
        <p:spPr>
          <a:xfrm>
            <a:off x="1235160" y="1735200"/>
            <a:ext cx="8331120" cy="4770360"/>
          </a:xfrm>
          <a:prstGeom prst="rect">
            <a:avLst/>
          </a:prstGeom>
          <a:ln w="0">
            <a:noFill/>
          </a:ln>
        </p:spPr>
      </p:pic>
      <p:sp>
        <p:nvSpPr>
          <p:cNvPr id="222" name="Стрелка вправо 4"/>
          <p:cNvSpPr/>
          <p:nvPr/>
        </p:nvSpPr>
        <p:spPr>
          <a:xfrm>
            <a:off x="5000760" y="4071960"/>
            <a:ext cx="500040" cy="5713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9dd9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Содержимое 8" descr=""/>
          <p:cNvPicPr/>
          <p:nvPr/>
        </p:nvPicPr>
        <p:blipFill>
          <a:blip r:embed="rId1"/>
          <a:stretch/>
        </p:blipFill>
        <p:spPr>
          <a:xfrm>
            <a:off x="-1193760" y="1521000"/>
            <a:ext cx="8331120" cy="4627440"/>
          </a:xfrm>
          <a:prstGeom prst="rect">
            <a:avLst/>
          </a:prstGeom>
          <a:ln w="0">
            <a:noFill/>
          </a:ln>
        </p:spPr>
      </p:pic>
      <p:pic>
        <p:nvPicPr>
          <p:cNvPr id="224" name="Содержимое 7" descr=""/>
          <p:cNvPicPr/>
          <p:nvPr/>
        </p:nvPicPr>
        <p:blipFill>
          <a:blip r:embed="rId2"/>
          <a:stretch/>
        </p:blipFill>
        <p:spPr>
          <a:xfrm>
            <a:off x="863640" y="1806480"/>
            <a:ext cx="8331120" cy="4627800"/>
          </a:xfrm>
          <a:prstGeom prst="rect">
            <a:avLst/>
          </a:prstGeom>
          <a:ln w="0">
            <a:noFill/>
          </a:ln>
        </p:spPr>
      </p:pic>
      <p:sp>
        <p:nvSpPr>
          <p:cNvPr id="225" name="Скругленный прямоугольник 4"/>
          <p:cNvSpPr/>
          <p:nvPr/>
        </p:nvSpPr>
        <p:spPr>
          <a:xfrm>
            <a:off x="785880" y="214200"/>
            <a:ext cx="7643880" cy="1357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Состав заработной платы 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без стимулирующих выплат,</a:t>
            </a:r>
            <a:r>
              <a:rPr b="1" lang="ru-RU" sz="2400" spc="-1" strike="noStrike">
                <a:solidFill>
                  <a:srgbClr val="7030a0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согласно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ч. 1 ст. 129 и ч. 2 ст. 135 ТК РФ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Равно 5"/>
          <p:cNvSpPr/>
          <p:nvPr/>
        </p:nvSpPr>
        <p:spPr>
          <a:xfrm>
            <a:off x="4143240" y="3643200"/>
            <a:ext cx="714600" cy="1071720"/>
          </a:xfrm>
          <a:custGeom>
            <a:avLst/>
            <a:gdLst/>
            <a:ahLst/>
            <a:rect l="l" t="t" r="r" b="b"/>
            <a:pathLst>
              <a:path w="714375" h="1071562">
                <a:moveTo>
                  <a:pt x="94690" y="220742"/>
                </a:moveTo>
                <a:lnTo>
                  <a:pt x="619685" y="220742"/>
                </a:lnTo>
                <a:lnTo>
                  <a:pt x="619685" y="472773"/>
                </a:lnTo>
                <a:lnTo>
                  <a:pt x="94690" y="472773"/>
                </a:lnTo>
                <a:lnTo>
                  <a:pt x="94690" y="220742"/>
                </a:lnTo>
                <a:close/>
                <a:moveTo>
                  <a:pt x="94690" y="598789"/>
                </a:moveTo>
                <a:lnTo>
                  <a:pt x="619685" y="598789"/>
                </a:lnTo>
                <a:lnTo>
                  <a:pt x="619685" y="850820"/>
                </a:lnTo>
                <a:lnTo>
                  <a:pt x="94690" y="850820"/>
                </a:lnTo>
                <a:lnTo>
                  <a:pt x="94690" y="598789"/>
                </a:lnTo>
                <a:close/>
              </a:path>
            </a:pathLst>
          </a:custGeom>
          <a:solidFill>
            <a:srgbClr val="009dd9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TextBox 10"/>
          <p:cNvSpPr/>
          <p:nvPr/>
        </p:nvSpPr>
        <p:spPr>
          <a:xfrm>
            <a:off x="8213760" y="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  <a:ea typeface="Arial"/>
              </a:rPr>
              <a:t>Слайд 7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Содержимое 8" descr=""/>
          <p:cNvPicPr/>
          <p:nvPr/>
        </p:nvPicPr>
        <p:blipFill>
          <a:blip r:embed="rId1"/>
          <a:stretch/>
        </p:blipFill>
        <p:spPr>
          <a:xfrm>
            <a:off x="-1122480" y="1806480"/>
            <a:ext cx="8331480" cy="4627800"/>
          </a:xfrm>
          <a:prstGeom prst="rect">
            <a:avLst/>
          </a:prstGeom>
          <a:ln w="0">
            <a:noFill/>
          </a:ln>
        </p:spPr>
      </p:pic>
      <p:pic>
        <p:nvPicPr>
          <p:cNvPr id="229" name="Содержимое 7" descr=""/>
          <p:cNvPicPr/>
          <p:nvPr/>
        </p:nvPicPr>
        <p:blipFill>
          <a:blip r:embed="rId2"/>
          <a:stretch/>
        </p:blipFill>
        <p:spPr>
          <a:xfrm>
            <a:off x="863640" y="1649520"/>
            <a:ext cx="8331120" cy="4627440"/>
          </a:xfrm>
          <a:prstGeom prst="rect">
            <a:avLst/>
          </a:prstGeom>
          <a:ln w="0">
            <a:noFill/>
          </a:ln>
        </p:spPr>
      </p:pic>
      <p:sp>
        <p:nvSpPr>
          <p:cNvPr id="230" name="Скругленный прямоугольник 3"/>
          <p:cNvSpPr/>
          <p:nvPr/>
        </p:nvSpPr>
        <p:spPr>
          <a:xfrm>
            <a:off x="1000080" y="214200"/>
            <a:ext cx="7000920" cy="1428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dd9"/>
                </a:solidFill>
                <a:latin typeface="Arial Black"/>
              </a:rPr>
              <a:t>Состав заработной платы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dd9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без компенсационных и  стимулирующих выплат,</a:t>
            </a:r>
            <a:r>
              <a:rPr b="1" lang="ru-RU" sz="2000" spc="-1" strike="noStrike">
                <a:solidFill>
                  <a:srgbClr val="009dd9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dd9"/>
                </a:solidFill>
                <a:latin typeface="Arial Black"/>
              </a:rPr>
              <a:t>согласно ч. 1 ст. 129 и ч. 2 ст. 135 ТК РФ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TextBox 8"/>
          <p:cNvSpPr/>
          <p:nvPr/>
        </p:nvSpPr>
        <p:spPr>
          <a:xfrm>
            <a:off x="8213760" y="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  <a:ea typeface="Arial"/>
              </a:rPr>
              <a:t>Слайд 8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Ст. 195.1 ТК РФ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41264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Квалификация работника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– уровень знаний, умений, профессиональных навыков и опыта работы работник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рофессиональный стандарт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– характеристика квалификации, необходимой работнику для осуществления определенного вида профессиональной деятельности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том числе выполнения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пределенной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рудовой функци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4" name="Picture 2" descr="C:\Users\Olga\Pictures\ТК РФ\Профстандарты\i8888.jpg"/>
          <p:cNvPicPr/>
          <p:nvPr/>
        </p:nvPicPr>
        <p:blipFill>
          <a:blip r:embed="rId1"/>
          <a:stretch/>
        </p:blipFill>
        <p:spPr>
          <a:xfrm>
            <a:off x="4572000" y="4368960"/>
            <a:ext cx="410364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Ст. 195.3 ТК РФ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орядок применения проф.стандарто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сли ТК РФ или другими ФЗ, иными НПА РФ установлены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требования к квалификации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 необходимой работнику для выполнения трудовой функции, проф.стандарты  в части указанных требований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бязательны для применения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ботодателя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Характеристики квалификации, содержащиеся в профстандартах и обязательность применения которых не установлена, применяются в качестве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сновы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для определения требований к квалификации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 учетом особенностей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выполняемых работниками трудовых функци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8680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Письмо Министерства труда и социальной защиты РФ от 04 апреля 2016 г. №14-0/10/В-2253</a:t>
            </a:r>
            <a:br>
              <a:rPr sz="49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24000" y="1483920"/>
            <a:ext cx="8496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В каких случаях применение проф. стандартов является обязательным 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ч.2 ст. 57 ТК РФ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именование должностей, профессий, специальностей и квалификацион. требования к ним должны соответствовать наименованиям и требованиям, указанным в квалификац.справочниках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или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профессиональных стандартах, если в соответствии с ТК РФ или иными ФЗ с выполнением  работ по этим должностям, профессиям связано предоставление  компенсаций и льгот либо наличие ограничени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т. 195.3 ТК РФ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ребования к квалификации работников, содержащиеся в проф.стандартах, обязательны для работодателя в случаях, если они установлены ТК РФ, ФЗ, иными НПА РФ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37396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Разъяснения Минтруда по вопросам применения проф.стандартов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844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Информация Минтруда и социальной защиты РФ от 10 февраля 2016 г. «О применении профессиональных стандартов в сфере труда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исьмо Министерства труда и социальной защиты РФ от 04 апреля 2016 г. №14-0/10/В-2253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1" name="Picture 2" descr="C:\Users\Olga\Pictures\ТК РФ\Профстандарты\i55.jpg"/>
          <p:cNvPicPr/>
          <p:nvPr/>
        </p:nvPicPr>
        <p:blipFill>
          <a:blip r:embed="rId1"/>
          <a:stretch/>
        </p:blipFill>
        <p:spPr>
          <a:xfrm>
            <a:off x="3203640" y="1550880"/>
            <a:ext cx="220032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23640" y="692280"/>
            <a:ext cx="837396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Информация Минтруда и социальной защиты РФ от 10 февраля 2016 г. «О применении профессиональных стандартов в сфере труда»</a:t>
            </a:r>
            <a:br>
              <a:rPr sz="49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844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Характеристики квалификации, обязательность применения которых не установлена  ТК РФ, ФЗ, НПА, применяются работодателями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 качестве основы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ля определения требований  к квалификаци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оф.стандарты применяются работодателями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 учетом особенностей организации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производства, труда и управлени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оф.стандарты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являются ориентирами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 могут применяться в части наименования должностей, профессий, специальностей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 учетом особенностей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обусловленных технологией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 организацией производств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 данного работодател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4" name="Picture 2" descr="C:\Users\Olga\Pictures\ТК РФ\Профстандарты\iфл.jpg"/>
          <p:cNvPicPr/>
          <p:nvPr/>
        </p:nvPicPr>
        <p:blipFill>
          <a:blip r:embed="rId1"/>
          <a:stretch/>
        </p:blipFill>
        <p:spPr>
          <a:xfrm>
            <a:off x="6156360" y="5315040"/>
            <a:ext cx="230508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23640" y="692280"/>
            <a:ext cx="837396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Информация Минтруда и социальной защиты РФ от 10 февраля 2016 г. «О применении профессиональных стандартов в сфере труда»</a:t>
            </a:r>
            <a:br>
              <a:rPr sz="49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844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огласно ч.2 ст. 57 ТК РФ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аименование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в трудовых договорах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должностей, профессий или специальностей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 квалификационные требования к ним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должны соответствовать наименованиям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 требованиям, указанным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в квалификационных справочниках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ЛИБО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профессиональных стандартах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если ТК РФ, иными ФЗ предусмотрено право работников на предоставление им компенсаций, льгот или каких-либо ограничений при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аботе в таких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олжностях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(по профессиям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пециальностям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Picture 2" descr="C:\Users\Olga\Pictures\ТК РФ\Профстандарты\labor.jpg"/>
          <p:cNvPicPr/>
          <p:nvPr/>
        </p:nvPicPr>
        <p:blipFill>
          <a:blip r:embed="rId1"/>
          <a:stretch/>
        </p:blipFill>
        <p:spPr>
          <a:xfrm>
            <a:off x="3635280" y="4869000"/>
            <a:ext cx="532944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8680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Письмо Министерства труда и социальной защиты РФ от 04 апреля 2016 г. №14-0/10/В-2253</a:t>
            </a:r>
            <a:br>
              <a:rPr sz="49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24000" y="1483920"/>
            <a:ext cx="8496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Могут ли обязанности работников, требования к стажу, образованию, измениться автоматически в связи с принятием проф.стандартов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Можно ли уволить работника при несоответствии проф. стандартам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язанности работников автоматически измениться не могут. Вступление  в силу проф.стандартов не является основанием для увольнени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зменение условий ТД может осуществляться в порядке ст. 74 ТК РФ, а также по соглашению сторон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ботодатель вправе  проводить аттестацию работник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42472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Calibri"/>
              </a:rPr>
              <a:t>Новые прецеденты  </a:t>
            </a:r>
            <a:br>
              <a:rPr sz="4400"/>
            </a:br>
            <a:r>
              <a:rPr b="1" lang="ru-RU" sz="4400" spc="-1" strike="noStrike">
                <a:solidFill>
                  <a:srgbClr val="04617b"/>
                </a:solidFill>
                <a:latin typeface="Calibri"/>
              </a:rPr>
              <a:t>Верховного Суда РФ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68000" y="1412640"/>
            <a:ext cx="8218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Индексация заработной платы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(Обзор судебной практики Верховного Суда РФ N 4 (2017) (утв. Президиумом Верховного Суда РФ 15 ноября 2017 г.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Пособие при сокращении за 3-ий месяц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(Определение СК по гражд. делам ВС РФ от 23.01.2017 г. №69-КГ 16-12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Расширение круга лиц, имеющих правовой иммунитет от увольнения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пределение СК по гражд. делам ВС РФ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т 23.01.2017 г. №69-КГ 16-12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Пособие по уходу за ребенком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стало доплатой к заработку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(Письмо ФСС от 19.01.18 г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№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02-08-01/17-04-138 32л, Определение ВС РФ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от 05.08.2019 г.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Рисунок 4" descr=""/>
          <p:cNvPicPr/>
          <p:nvPr/>
        </p:nvPicPr>
        <p:blipFill>
          <a:blip r:embed="rId1"/>
          <a:stretch/>
        </p:blipFill>
        <p:spPr>
          <a:xfrm>
            <a:off x="6227640" y="4005360"/>
            <a:ext cx="2592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8680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Письмо Министерства труда и социальной защиты РФ от 04 апреля 2016 г. №14-0/10/В-2253</a:t>
            </a:r>
            <a:br>
              <a:rPr sz="49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24000" y="1483920"/>
            <a:ext cx="8496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Должны ли работники привести свою квалификацию с требованиями проф.стандартов? Кто несет расходы на обучени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т. 196 ТК РФ необходимость подготовки для собственных нужд определяет работодатель. Подготовка работников осуществляется работодателем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 условиях и в порядке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пределенным КД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Д, соглашениям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2" name="Picture 2" descr="C:\Users\Olga\Pictures\ТК РФ\Профстандарты\дипломы.jpg"/>
          <p:cNvPicPr/>
          <p:nvPr/>
        </p:nvPicPr>
        <p:blipFill>
          <a:blip r:embed="rId1"/>
          <a:stretch/>
        </p:blipFill>
        <p:spPr>
          <a:xfrm>
            <a:off x="4284720" y="4076640"/>
            <a:ext cx="424800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8680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Письмо Министерства труда и социальной защиты РФ от 04 апреля 2016 г. №14-0/10/В-2253</a:t>
            </a:r>
            <a:br>
              <a:rPr sz="49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24000" y="1483920"/>
            <a:ext cx="8496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Если выполняемые  работником обязанности шире, чем содержащиеся в проф. стандартах, имеет ли он право на доплату за совмещение профессий?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и совмещении профессий, увеличении объема работ, оплата труда производится с учетом ст. 151 ТК РФ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5" name="Picture 2" descr="C:\Users\Olga\Pictures\ТК РФ\Профстандарты\i67676.jpg"/>
          <p:cNvPicPr/>
          <p:nvPr/>
        </p:nvPicPr>
        <p:blipFill>
          <a:blip r:embed="rId1"/>
          <a:stretch/>
        </p:blipFill>
        <p:spPr>
          <a:xfrm>
            <a:off x="1619280" y="4076640"/>
            <a:ext cx="648180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9280" y="1268280"/>
            <a:ext cx="814716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Правительство Новгородской области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250920" y="119700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Распоряжение от 28.12.2016 г. №386-рг «О внедрении системы  проф.стандартов на территории Новгородской области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1. Утвердит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план мероприятий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о внедрению проф.стандартов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2. Органам исполнительной власти принят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меры по внедрению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роф.стандартов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поэтапно до 01 января 2020 г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3.Рекомендовать органам местного самоуправления принять меры по реализации проф.стандартов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в отношении муниципальных учреждени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4. Рекомендовать работодателям и профсоюзам организовать работу по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onstantia"/>
              </a:rPr>
              <a:t>внедрению системы проф.стандартов в организациях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8" name="Picture 2" descr="C:\Users\Olga\Pictures\Для презентаций\герб.jpg"/>
          <p:cNvPicPr/>
          <p:nvPr/>
        </p:nvPicPr>
        <p:blipFill>
          <a:blip r:embed="rId1"/>
          <a:stretch/>
        </p:blipFill>
        <p:spPr>
          <a:xfrm>
            <a:off x="3419640" y="0"/>
            <a:ext cx="17524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ФЗ «</a:t>
            </a: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О профессиональных союзах, их правах и гарантиях деятельности» </a:t>
            </a:r>
            <a:br>
              <a:rPr sz="2800"/>
            </a:b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 от 12.01.1996 г.  № 10-ФЗ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68000" y="1412640"/>
            <a:ext cx="83516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татья 5 .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Независимость профсоюзо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1. Профсоюзы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езависимы в своей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деятельности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т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органов исполни-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тельной власти, органов местного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амоуправления, работодателей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их объединений (союзов, ассоциаций), политических партий и других общественных объединений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, им не подотчетны и не подконтрольн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2.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Запрещается вмешательство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рганов государственной власти, органов местного самоуправления и их должностных лиц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 деятельность профсоюзов,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которое может повлечь за собой ограничение прав профсоюзов или воспрепятствовать законному осуществлению их уставной деятельност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1" name="Picture 2" descr="C:\Users\Olga\Pictures\Для презентаций\iCAWLE0R9.jpg"/>
          <p:cNvPicPr/>
          <p:nvPr/>
        </p:nvPicPr>
        <p:blipFill>
          <a:blip r:embed="rId1"/>
          <a:stretch/>
        </p:blipFill>
        <p:spPr>
          <a:xfrm>
            <a:off x="6372360" y="1413000"/>
            <a:ext cx="2592360" cy="20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Трудовой кодекс РФ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Глава 58 «Защита трудовых прав  и законных интересов работников  профессиональными союзами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право профсоюзов на осуществление контроля за соблюдением трудового законодательства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порядок учета мнения профсоюз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гарантии профсоюзным работника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4" name="Picture 2" descr="C:\Users\Olga\Pictures\Для презентаций\EnFSqAYG6X4.jpg"/>
          <p:cNvPicPr/>
          <p:nvPr/>
        </p:nvPicPr>
        <p:blipFill>
          <a:blip r:embed="rId1"/>
          <a:stretch/>
        </p:blipFill>
        <p:spPr>
          <a:xfrm>
            <a:off x="6732720" y="3789360"/>
            <a:ext cx="214308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822960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Учет мнения при увольнении членов профсоюза ст. 373 ТК РФ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6" name="Объект 3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856908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Право профсоюзов на контроль за соблюдением трудового законодательств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8" name="Объект 3" descr=""/>
          <p:cNvPicPr/>
          <p:nvPr/>
        </p:nvPicPr>
        <p:blipFill>
          <a:blip r:embed="rId1"/>
          <a:stretch/>
        </p:blipFill>
        <p:spPr>
          <a:xfrm>
            <a:off x="457200" y="1413000"/>
            <a:ext cx="822960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42560" y="549360"/>
            <a:ext cx="785988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Гарантии работникам, входящим в состав выборных коллегиальных органов профсоюзных организаций ст. 374 ТК РФ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84360" y="1557360"/>
            <a:ext cx="8013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увольнение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 инициативе работодателя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(п.2,3,5 части 1 ст. 81 ТК РФ)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опускается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только с предварительного согласия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шестоящего выборного профсоюзного орган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Члены выборных органов, не освобожденные от основной работы,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свобождаются от неё для участия в работе съездов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конференций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раткосрочной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офсоюзной учебы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1" name="Picture 2" descr="C:\Users\Olga\Pictures\Для презентаций\iCA8ECUBB.jpg"/>
          <p:cNvPicPr/>
          <p:nvPr/>
        </p:nvPicPr>
        <p:blipFill>
          <a:blip r:embed="rId1"/>
          <a:stretch/>
        </p:blipFill>
        <p:spPr>
          <a:xfrm>
            <a:off x="5076720" y="4149720"/>
            <a:ext cx="35766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42560" y="549360"/>
            <a:ext cx="785988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Гарантии и компенсации лицам, участвующим в коллективных переговорах ст. 39 ТК РФ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4360" y="1557360"/>
            <a:ext cx="8013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свобождаются от основной работы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 сохранением среднего заработка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а срок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е более 3 мес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е могут быть подвергнуты дисциплинарному взысканию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 переведены на другую работу,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уволены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по инициативе работодателя, без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едварительного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гласия органа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полномочившего их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 представительство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4" name="Рисунок 4" descr=""/>
          <p:cNvPicPr/>
          <p:nvPr/>
        </p:nvPicPr>
        <p:blipFill>
          <a:blip r:embed="rId1"/>
          <a:stretch/>
        </p:blipFill>
        <p:spPr>
          <a:xfrm>
            <a:off x="4967280" y="4149720"/>
            <a:ext cx="37908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636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4617b"/>
                </a:solidFill>
                <a:latin typeface="Calibri"/>
              </a:rPr>
              <a:t>Трудовой договор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6" name="Объект 3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64216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42472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Calibri"/>
              </a:rPr>
              <a:t>Постановления  </a:t>
            </a:r>
            <a:br>
              <a:rPr sz="4400"/>
            </a:br>
            <a:r>
              <a:rPr b="1" lang="ru-RU" sz="4400" spc="-1" strike="noStrike">
                <a:solidFill>
                  <a:srgbClr val="04617b"/>
                </a:solidFill>
                <a:latin typeface="Calibri"/>
              </a:rPr>
              <a:t>Конституционного Суда РФ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68000" y="1412640"/>
            <a:ext cx="8218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еиспользованные отпуска не «сгорают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». (Постановление  КС РФ от 25.10.2018 г. №38-П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Работа в выходные и нерабочие праздничные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оплачивается  с учетом компенсационных и стимулирующих  выплат, а не только одного оклада (Постановление КС РФ от 28.06.2018 г. №26-П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При увольнении работника по сокращению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работодатель обязан предлагать все вакансии, кроме вакансий по срочному ТД(Определение КС РФ  от 17.07.2018 г. №1894-О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Содержание трудового договор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8" name="Объект 3" descr=""/>
          <p:cNvPicPr/>
          <p:nvPr/>
        </p:nvPicPr>
        <p:blipFill>
          <a:blip r:embed="rId1"/>
          <a:stretch/>
        </p:blipFill>
        <p:spPr>
          <a:xfrm>
            <a:off x="406440" y="1290600"/>
            <a:ext cx="833112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8000" y="549360"/>
            <a:ext cx="90360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4617b"/>
                </a:solidFill>
                <a:latin typeface="Calibri"/>
              </a:rPr>
              <a:t>Срок трудового договора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Ст. 58  ТК РФ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Д могут заключаться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 неопределенный срок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на определенный срок не более 5 лет (срочный ТД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сли в ТД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е оговорен его срок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 он считается заключенным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а неопределенный ср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к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сли ни одна из сторон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е потребовала расторжения срочного ТД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вязи с истечением срока 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ботник продолжает работать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договор считается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заключенным на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еопределенный срок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1" name="Рисунок 3" descr=""/>
          <p:cNvPicPr/>
          <p:nvPr/>
        </p:nvPicPr>
        <p:blipFill>
          <a:blip r:embed="rId1"/>
          <a:stretch/>
        </p:blipFill>
        <p:spPr>
          <a:xfrm>
            <a:off x="5508720" y="3841920"/>
            <a:ext cx="338436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79280" y="980640"/>
            <a:ext cx="8964720" cy="71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Срочный трудовой договор ст. 59 ТК РФ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250560" y="1267920"/>
            <a:ext cx="87138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рочный ТД  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может заключаться по соглашению сторон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у работодателей - субъектов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малого предпринимательства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с поступающими на работу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енсионерами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 возрасту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в организациях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Крайнего Севера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 если связано с переездо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для проведения неотложных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бот по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редотвращению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катастроф, аварий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 др. ЧС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с лицами, избранными по конкурсу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4" name="Рисунок 3" descr=""/>
          <p:cNvPicPr/>
          <p:nvPr/>
        </p:nvPicPr>
        <p:blipFill>
          <a:blip r:embed="rId1"/>
          <a:stretch/>
        </p:blipFill>
        <p:spPr>
          <a:xfrm>
            <a:off x="6443640" y="4076640"/>
            <a:ext cx="208764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Общие основания прекращения трудового договора ст. 77 ТК РФ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6" name="Объект 3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8064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915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Увольнение по собственному желанию ст. 80 ТК РФ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8" name="Объект 3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8483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Расторжение трудового договора по инициативе работодателя ст.ст. 71, 81 ТК РФ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68000" y="1628280"/>
            <a:ext cx="8218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ри не прохождении </a:t>
            </a: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испытательного срока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ликвидация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 организации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Сокращение численности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или штата работников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Несоответствие работника занимаемой должности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о результатам аттестации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Смена собственника имущества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организации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(в отношении руководителя  и главбуха)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Неоднократного неисполнения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работником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без уважительных причин </a:t>
            </a: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трудовых обяз-тей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ри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наличии дисциплинарного взыскания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Однократного </a:t>
            </a: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грубого нарушения трудовых обязанностей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(прогул, появление в нетрезвом виде, разглашение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тайны, совершения хищения, нарушения работником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требований охраны труда, если повлекло тяжкие последствия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Совершение виновных действий как основание для </a:t>
            </a: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утраты доверия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Предоставление неполных или </a:t>
            </a: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недостоверных сведений о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доходах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Совершение аморального поступка  (педагоги, воспитатели)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1" name="Рисунок 2" descr=""/>
          <p:cNvPicPr/>
          <p:nvPr/>
        </p:nvPicPr>
        <p:blipFill>
          <a:blip r:embed="rId1"/>
          <a:stretch/>
        </p:blipFill>
        <p:spPr>
          <a:xfrm>
            <a:off x="5653080" y="1844640"/>
            <a:ext cx="34146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3" name="Объект 3" descr=""/>
          <p:cNvPicPr/>
          <p:nvPr/>
        </p:nvPicPr>
        <p:blipFill>
          <a:blip r:embed="rId1"/>
          <a:stretch/>
        </p:blipFill>
        <p:spPr>
          <a:xfrm>
            <a:off x="108000" y="476280"/>
            <a:ext cx="885672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Отпуск при работе по совместительству, гарантии и компенсации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Ежегодные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плачиваемые отпуска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едоставляются совместителям одновременно с отпуском по основной работе (ст. 286 ТК РФ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Гарантии и компенсации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едоставляются совместителям в полном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бъеме (ст. 287 ТК РФ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Гарантии только по основном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месту работы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*лицам, совмещающим работу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 обучением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*лицам, работающим в районах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райнего Севера и приравненным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 ним местностям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6" name="Рисунок 2" descr=""/>
          <p:cNvPicPr/>
          <p:nvPr/>
        </p:nvPicPr>
        <p:blipFill>
          <a:blip r:embed="rId1"/>
          <a:stretch/>
        </p:blipFill>
        <p:spPr>
          <a:xfrm>
            <a:off x="5435640" y="3141720"/>
            <a:ext cx="360036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50560" y="981000"/>
            <a:ext cx="871380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4617b"/>
                </a:solidFill>
                <a:latin typeface="Calibri"/>
              </a:rPr>
              <a:t>СПАСИБО ЗА ВНИМАНИЕ!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8" name="Объект 5" descr=""/>
          <p:cNvPicPr/>
          <p:nvPr/>
        </p:nvPicPr>
        <p:blipFill>
          <a:blip r:embed="rId1"/>
          <a:stretch/>
        </p:blipFill>
        <p:spPr>
          <a:xfrm>
            <a:off x="324000" y="2276640"/>
            <a:ext cx="864072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8000" y="404640"/>
            <a:ext cx="90360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Изменения в законодательстве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68360" y="1628640"/>
            <a:ext cx="82296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аво работника обращаться в суд  по трудовым спорам по месту жительства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или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 месту нахождения работодател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и применении дисциплинарного взыскания к работнику необходимо дать ему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2 дня на написание объяснительно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величение срока исковой давност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 невыплате заработной платы и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ных выплат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до 1 года (ст. 392 ТК РФ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Рисунок 5" descr=""/>
          <p:cNvPicPr/>
          <p:nvPr/>
        </p:nvPicPr>
        <p:blipFill>
          <a:blip r:embed="rId1"/>
          <a:stretch/>
        </p:blipFill>
        <p:spPr>
          <a:xfrm>
            <a:off x="6743880" y="3789360"/>
            <a:ext cx="2232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90360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Изменения в законодательстве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94920" y="907920"/>
            <a:ext cx="820908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Статья 262.2.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ТК РФ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аботникам, имеющим трех и более детей в возрасте до двенадцати лет, ежегодный оплачиваемый отпуск предоставляется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о их желанию в удобное для них врем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Статья 185.1</a:t>
            </a: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ТК РФ </a:t>
            </a: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Гарантии работникам при прохождении диспансеризации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Работники при прохождении диспансеризации имеют право на освобождение от работы </a:t>
            </a:r>
            <a:r>
              <a:rPr b="1" lang="ru-RU" sz="2100" spc="-1" strike="noStrike" u="sng">
                <a:solidFill>
                  <a:srgbClr val="000000"/>
                </a:solidFill>
                <a:uFillTx/>
                <a:latin typeface="Constantia"/>
              </a:rPr>
              <a:t>на один рабочий день один раз в три года </a:t>
            </a: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с сохрарением за ними места работы и среднего заработка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Работники, не достигшие возраста, дающего право на назначение пенсии по старости, в том числе досрочно, </a:t>
            </a: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в течение пяти лет до наступления такого возраста </a:t>
            </a: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и работники, </a:t>
            </a: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являющиеся получателями пенсии по старости </a:t>
            </a: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или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пенсии за выслугу лет, при прохождении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диспансеризации, имеют право на </a:t>
            </a:r>
            <a:r>
              <a:rPr b="1" lang="ru-RU" sz="2100" spc="-1" strike="noStrike" u="sng">
                <a:solidFill>
                  <a:srgbClr val="000000"/>
                </a:solidFill>
                <a:uFillTx/>
                <a:latin typeface="Constantia"/>
              </a:rPr>
              <a:t>два рабочих дня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1" lang="ru-RU" sz="2100" spc="-1" strike="noStrike" u="sng">
                <a:solidFill>
                  <a:srgbClr val="000000"/>
                </a:solidFill>
                <a:uFillTx/>
                <a:latin typeface="Constantia"/>
              </a:rPr>
              <a:t>один раз в год  </a:t>
            </a: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с сохранением места работы и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среднего заработка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Рисунок 4" descr=""/>
          <p:cNvPicPr/>
          <p:nvPr/>
        </p:nvPicPr>
        <p:blipFill>
          <a:blip r:embed="rId1"/>
          <a:stretch/>
        </p:blipFill>
        <p:spPr>
          <a:xfrm>
            <a:off x="6948360" y="4221000"/>
            <a:ext cx="2222640" cy="25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90360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Изменения в законодательстве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24000" y="836640"/>
            <a:ext cx="8208720" cy="5184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 fontScale="86000"/>
          </a:bodyPr>
          <a:p>
            <a:pPr marL="234360" indent="-23436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т. 144.1 УК РФ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еобоснованный отказ в приеме на работу лица по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мотивам достижения им предпенсионного возраста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а равно необоснованное увольнение с работы такого лица по тем же мотивам - наказывается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штрафом в размере до двухсот тысяч рублей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или в размере заработной платы или иного дохода осужденного за период до восемнадцати месяцев либо обязательными работами на срок до трехсот шестидесяти часов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Ч. 7 ст. 360 ТК РФ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ополнительное основание для проверки ГИТ при обращениях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 фактах уклонения от оформления трудового договора, ненадлежащего оформления трудового договора или заключения гражданско-правового договора, фактически регулирующего трудовые отношения между работником и работодателем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80000"/>
              </a:lnSpc>
              <a:spcBef>
                <a:spcPts val="3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 algn="just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7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50920" y="2060640"/>
            <a:ext cx="864072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4617b"/>
                </a:solidFill>
                <a:latin typeface="Calibri"/>
              </a:rPr>
              <a:t>Постановление Конституционного </a:t>
            </a:r>
            <a:br>
              <a:rPr sz="4400"/>
            </a:br>
            <a:r>
              <a:rPr b="1" lang="ru-RU" sz="4400" spc="-1" strike="noStrike">
                <a:solidFill>
                  <a:srgbClr val="04617b"/>
                </a:solidFill>
                <a:latin typeface="Calibri"/>
              </a:rPr>
              <a:t>Суда РФ от 11.04.2019 г. №17-П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11280" y="1483920"/>
            <a:ext cx="8146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 МРОТ не могут включаться   выплаты, связанные со сверхурочной работой, работой в ночное время, в выходные и нерабочие праздничные дн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2" descr="C:\Users\Olga\Videos\images.png"/>
          <p:cNvPicPr/>
          <p:nvPr/>
        </p:nvPicPr>
        <p:blipFill>
          <a:blip r:embed="rId1"/>
          <a:stretch/>
        </p:blipFill>
        <p:spPr>
          <a:xfrm>
            <a:off x="3635280" y="189000"/>
            <a:ext cx="180036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64072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Calibri"/>
              </a:rPr>
              <a:t>Постановление Конституционного </a:t>
            </a:r>
            <a:br>
              <a:rPr sz="4400"/>
            </a:br>
            <a:r>
              <a:rPr b="1" lang="ru-RU" sz="4400" spc="-1" strike="noStrike">
                <a:solidFill>
                  <a:srgbClr val="04617b"/>
                </a:solidFill>
                <a:latin typeface="Calibri"/>
              </a:rPr>
              <a:t>Суда РФ от 07.12.2017 г. №38-П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68000" y="1628640"/>
            <a:ext cx="82184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 МРОТ не могут включаться  районные коэффициенты и процентные надбавки за работу в особых климатических условиях, они должны начисляться на заработок, определенный в соответствии с установленной системой оплаты труд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Рисунок 5" descr=""/>
          <p:cNvPicPr/>
          <p:nvPr/>
        </p:nvPicPr>
        <p:blipFill>
          <a:blip r:embed="rId1"/>
          <a:stretch/>
        </p:blipFill>
        <p:spPr>
          <a:xfrm>
            <a:off x="6227640" y="4292640"/>
            <a:ext cx="25815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           </a:t>
            </a: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Оплата труд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7" name="Объект 3" descr=""/>
          <p:cNvPicPr/>
          <p:nvPr/>
        </p:nvPicPr>
        <p:blipFill>
          <a:blip r:embed="rId1"/>
          <a:stretch/>
        </p:blipFill>
        <p:spPr>
          <a:xfrm>
            <a:off x="324000" y="1379520"/>
            <a:ext cx="6696000" cy="547200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2" descr=""/>
          <p:cNvPicPr/>
          <p:nvPr/>
        </p:nvPicPr>
        <p:blipFill>
          <a:blip r:embed="rId2"/>
          <a:stretch/>
        </p:blipFill>
        <p:spPr>
          <a:xfrm>
            <a:off x="6804000" y="4076640"/>
            <a:ext cx="234000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0T13:43:41Z</dcterms:created>
  <dc:creator>Olga</dc:creator>
  <dc:description/>
  <dc:language>en-US</dc:language>
  <cp:lastModifiedBy>admin</cp:lastModifiedBy>
  <cp:lastPrinted>2014-09-15T09:03:35Z</cp:lastPrinted>
  <dcterms:modified xsi:type="dcterms:W3CDTF">2023-11-30T13:33:02Z</dcterms:modified>
  <cp:revision>108</cp:revision>
  <dc:subject/>
  <dc:title>Практика применения норм трудового законодательства</dc:title>
</cp:coreProperties>
</file>